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9076-8605-452F-8F63-0758D567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33360" y="186840"/>
            <a:ext cx="85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B4D4-234E-43B2-A305-C062A69A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33360" y="186840"/>
            <a:ext cx="85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1B71-FD2A-45FF-ABF5-B36D1B0B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33360" y="186840"/>
            <a:ext cx="85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AA7C-C717-4175-A717-68C08A4D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33360" y="186840"/>
            <a:ext cx="85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902C-7C6B-4F56-8C7C-37295450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3360" y="186840"/>
            <a:ext cx="85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1F64-CE75-4957-B064-210A3A5C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3360" y="186840"/>
            <a:ext cx="85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9B99-495D-48B2-BA0D-E87C51CC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3360" y="186840"/>
            <a:ext cx="85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2150-BA96-4B98-8A6A-ADEDF0B0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33360" y="186840"/>
            <a:ext cx="8593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D8A2-1A9D-4A5A-BB51-97A8AEB1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3360" y="186840"/>
            <a:ext cx="85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6C9F-A5A6-431E-B146-B36D2C2F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3360" y="186840"/>
            <a:ext cx="85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C50D-9BA8-4B94-9A57-D36D55E9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33360" y="186840"/>
            <a:ext cx="85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6620-F4BF-4F0B-A818-440452A4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3360" y="186840"/>
            <a:ext cx="85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F39E-9438-44AB-81B0-B2516849B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beca@ctc.cl" TargetMode="External"/><Relationship Id="rId3" Type="http://schemas.openxmlformats.org/officeDocument/2006/relationships/hyperlink" Target="mailto:rbeca@ctc.cl" TargetMode="External"/><Relationship Id="rId4" Type="http://schemas.openxmlformats.org/officeDocument/2006/relationships/hyperlink" Target="mailto:rbeca@ctc.cl" TargetMode="External"/><Relationship Id="rId5" Type="http://schemas.openxmlformats.org/officeDocument/2006/relationships/hyperlink" Target="mailto:rbeca@ctc.cl" TargetMode="External"/><Relationship Id="rId6" Type="http://schemas.openxmlformats.org/officeDocument/2006/relationships/hyperlink" Target="mailto:rbeca@ctc.cl" TargetMode="External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so.icann.org/lists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so.icann.org/wilma-bin/wilma/aso-announce#browse" TargetMode="External"/><Relationship Id="rId2" Type="http://schemas.openxmlformats.org/officeDocument/2006/relationships/hyperlink" Target="http://www.aso.icann.org/wilma-bin/wilma/aso-announce#browse" TargetMode="External"/><Relationship Id="rId3" Type="http://schemas.openxmlformats.org/officeDocument/2006/relationships/hyperlink" Target="http://www.aso.icann.org/wilma-bin/wilma/aso-announce#browse" TargetMode="External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so.icann.org/wilma-bin/wilma/aso-policy#policy" TargetMode="External"/><Relationship Id="rId2" Type="http://schemas.openxmlformats.org/officeDocument/2006/relationships/hyperlink" Target="http://www.aso.icann.org/wilma-bin/wilma/aso-policy#policy" TargetMode="External"/><Relationship Id="rId3" Type="http://schemas.openxmlformats.org/officeDocument/2006/relationships/hyperlink" Target="http://www.aso.icann.org/wilma-bin/wilma/aso-policy#policy" TargetMode="External"/><Relationship Id="rId4" Type="http://schemas.openxmlformats.org/officeDocument/2006/relationships/hyperlink" Target="mailto:aso-policy@lists.aso.icann.org" TargetMode="External"/><Relationship Id="rId5" Type="http://schemas.openxmlformats.org/officeDocument/2006/relationships/hyperlink" Target="mailto:aso-policy@lists.aso.icann.org" TargetMode="External"/><Relationship Id="rId6" Type="http://schemas.openxmlformats.org/officeDocument/2006/relationships/hyperlink" Target="mailto:aso-policy@lists.aso.icann.org" TargetMode="External"/><Relationship Id="rId7" Type="http://schemas.openxmlformats.org/officeDocument/2006/relationships/hyperlink" Target="mailto:aso-policy@lists.aso.icann.org" TargetMode="External"/><Relationship Id="rId8" Type="http://schemas.openxmlformats.org/officeDocument/2006/relationships/hyperlink" Target="mailto:aso-policy@lists.aso.icann.org" TargetMode="External"/><Relationship Id="rId9" Type="http://schemas.openxmlformats.org/officeDocument/2006/relationships/hyperlink" Target="mailto:aso-policy@lists.aso.icann.org" TargetMode="External"/><Relationship Id="rId10" Type="http://schemas.openxmlformats.org/officeDocument/2006/relationships/hyperlink" Target="mailto:aso-policy@lists.aso.icann.org" TargetMode="External"/><Relationship Id="rId11" Type="http://schemas.openxmlformats.org/officeDocument/2006/relationships/hyperlink" Target="mailto:aso-policy@lists.aso.icann.org" TargetMode="External"/><Relationship Id="rId12" Type="http://schemas.openxmlformats.org/officeDocument/2006/relationships/hyperlink" Target="mailto:aso-policy@lists.aso.icann.org" TargetMode="External"/><Relationship Id="rId13" Type="http://schemas.openxmlformats.org/officeDocument/2006/relationships/hyperlink" Target="mailto:aso-policy@lists.aso.icann.org" TargetMode="External"/><Relationship Id="rId14" Type="http://schemas.openxmlformats.org/officeDocument/2006/relationships/hyperlink" Target="mailto:aso-policy@lists.aso.icann.org" TargetMode="External"/><Relationship Id="rId1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so.icann.org/wilma-bin/wilma/aso-comment#browse" TargetMode="External"/><Relationship Id="rId2" Type="http://schemas.openxmlformats.org/officeDocument/2006/relationships/hyperlink" Target="http://www.aso.icann.org/wilma-bin/wilma/aso-comment#browse" TargetMode="External"/><Relationship Id="rId3" Type="http://schemas.openxmlformats.org/officeDocument/2006/relationships/hyperlink" Target="http://www.aso.icann.org/wilma-bin/wilma/aso-comment#browse" TargetMode="External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so.icann.org/meetings/ac/ac-20001206.html" TargetMode="External"/><Relationship Id="rId2" Type="http://schemas.openxmlformats.org/officeDocument/2006/relationships/hyperlink" Target="http://www.aso.icann.org/meetings/ac/ac-20001206.html" TargetMode="Externa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so.icann.org/meetings/ac/ac-20010103.html" TargetMode="External"/><Relationship Id="rId2" Type="http://schemas.openxmlformats.org/officeDocument/2006/relationships/hyperlink" Target="http://www.aso.icann.org/meetings/ac/ac-20010103.html" TargetMode="Externa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aso.icann.org/meetings/ac/ac-20010103.html" TargetMode="External"/><Relationship Id="rId2" Type="http://schemas.openxmlformats.org/officeDocument/2006/relationships/hyperlink" Target="http://www.aso.icann.org/meetings/ac/ac-20010103.html" TargetMode="Externa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jianping@sea.net.edu.cn" TargetMode="External"/><Relationship Id="rId2" Type="http://schemas.openxmlformats.org/officeDocument/2006/relationships/hyperlink" Target="mailto:arano@byd.ocn.ad.jp" TargetMode="External"/><Relationship Id="rId3" Type="http://schemas.openxmlformats.org/officeDocument/2006/relationships/hyperlink" Target="mailto:arano@byd.ocn.ad.jp" TargetMode="External"/><Relationship Id="rId4" Type="http://schemas.openxmlformats.org/officeDocument/2006/relationships/hyperlink" Target="mailto:seungmin@krnic.net" TargetMode="External"/><Relationship Id="rId5" Type="http://schemas.openxmlformats.org/officeDocument/2006/relationships/hyperlink" Target="mailto:seungmin@krnic.net" TargetMode="External"/><Relationship Id="rId6" Type="http://schemas.openxmlformats.org/officeDocument/2006/relationships/hyperlink" Target="mailto:rbeca@ctc.cl" TargetMode="External"/><Relationship Id="rId7" Type="http://schemas.openxmlformats.org/officeDocument/2006/relationships/hyperlink" Target="mailto:cjw@remarque.org" TargetMode="External"/><Relationship Id="rId8" Type="http://schemas.openxmlformats.org/officeDocument/2006/relationships/hyperlink" Target="mailto:cjw@remarque.org" TargetMode="External"/><Relationship Id="rId9" Type="http://schemas.openxmlformats.org/officeDocument/2006/relationships/hyperlink" Target="mailto:barbara@gblx.net" TargetMode="External"/><Relationship Id="rId10" Type="http://schemas.openxmlformats.org/officeDocument/2006/relationships/hyperlink" Target="mailto:barbara@gblx.net" TargetMode="External"/><Relationship Id="rId11" Type="http://schemas.openxmlformats.org/officeDocument/2006/relationships/hyperlink" Target="mailto:hph@online.no" TargetMode="External"/><Relationship Id="rId12" Type="http://schemas.openxmlformats.org/officeDocument/2006/relationships/hyperlink" Target="mailto:hph@online.no" TargetMode="External"/><Relationship Id="rId13" Type="http://schemas.openxmlformats.org/officeDocument/2006/relationships/hyperlink" Target="mailto:woeber@CC.UniVie.ac.at" TargetMode="External"/><Relationship Id="rId14" Type="http://schemas.openxmlformats.org/officeDocument/2006/relationships/hyperlink" Target="mailto:sabine.jaume@renater.fr" TargetMode="External"/><Relationship Id="rId15" Type="http://schemas.openxmlformats.org/officeDocument/2006/relationships/hyperlink" Target="mailto:sabine.jaume@renater.fr" TargetMode="External"/><Relationship Id="rId1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ant@hivemind.net" TargetMode="External"/><Relationship Id="rId2" Type="http://schemas.openxmlformats.org/officeDocument/2006/relationships/hyperlink" Target="mailto:ant@hivemind.net" TargetMode="External"/><Relationship Id="rId3" Type="http://schemas.openxmlformats.org/officeDocument/2006/relationships/hyperlink" Target="mailto:ant@hivemind.net" TargetMode="External"/><Relationship Id="rId4" Type="http://schemas.openxmlformats.org/officeDocument/2006/relationships/hyperlink" Target="mailto:mouhamet@sonatel.sn" TargetMode="External"/><Relationship Id="rId5" Type="http://schemas.openxmlformats.org/officeDocument/2006/relationships/hyperlink" Target="mailto:quaynor@ghana.com" TargetMode="External"/><Relationship Id="rId6" Type="http://schemas.openxmlformats.org/officeDocument/2006/relationships/hyperlink" Target="mailto:gvaldez@nic.mx" TargetMode="External"/><Relationship Id="rId7" Type="http://schemas.openxmlformats.org/officeDocument/2006/relationships/hyperlink" Target="mailto:glaser@fapesp.br" TargetMode="External"/><Relationship Id="rId8" Type="http://schemas.openxmlformats.org/officeDocument/2006/relationships/hyperlink" Target="mailto:glaser@fapesp.br" TargetMode="External"/><Relationship Id="rId9" Type="http://schemas.openxmlformats.org/officeDocument/2006/relationships/hyperlink" Target="mailto:glaser@fapesp.br" TargetMode="External"/><Relationship Id="rId10" Type="http://schemas.openxmlformats.org/officeDocument/2006/relationships/hyperlink" Target="mailto:glaser@fapesp.br" TargetMode="External"/><Relationship Id="rId11" Type="http://schemas.openxmlformats.org/officeDocument/2006/relationships/hyperlink" Target="mailto:jplano@quorum.com.ar" TargetMode="External"/><Relationship Id="rId12" Type="http://schemas.openxmlformats.org/officeDocument/2006/relationships/hyperlink" Target="mailto:jplano@quorum.com.ar" TargetMode="External"/><Relationship Id="rId13" Type="http://schemas.openxmlformats.org/officeDocument/2006/relationships/hyperlink" Target="mailto:jplano@quorum.com.ar" TargetMode="External"/><Relationship Id="rId1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lyman@bbn.com" TargetMode="External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695760" y="2286000"/>
            <a:ext cx="1485720" cy="1146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5382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E SOBRE ADDRESS COU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4191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mundo Beca I.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  <a:hlinkClick r:id="rId2"/>
              </a:rPr>
              <a:t>rbec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  <a:hlinkClick r:id="rId3"/>
              </a:rPr>
              <a:t>@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  <a:hlinkClick r:id="rId4"/>
              </a:rPr>
              <a:t>ctc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  <a:hlinkClick r:id="rId6"/>
              </a:rPr>
              <a:t>c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438280" y="6172200"/>
            <a:ext cx="426744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ao Paulo - Brasil, 28 de Noviembre de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57150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CNIC 2001” - II ENCUENTRO ABIERTO SOBRE POLI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141120"/>
            <a:ext cx="8810640" cy="655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Mailing L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04920" y="1066680"/>
          <a:ext cx="8534160" cy="551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066680"/>
                    <a:ext cx="853416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6320" y="76320"/>
            <a:ext cx="8991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aso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-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annou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aso-announce@aso.icann.or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2209680"/>
            <a:ext cx="76964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zada para entregar noticias relacionadas con el ASO, así como información sobre desarrollo de política, reuniones y comentarios en gen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suscripción es abierta a todos y la publicación es sólo a través de la secretaría del 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2280" y="76320"/>
            <a:ext cx="8763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aso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-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policy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aso-policy@aso.icann.or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981080"/>
            <a:ext cx="807732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a lista está pensada para generar discusiones del ASO a través de un Foro Público abierto a todos los participantes, de acuerdo a las bases establecidas en el ASO M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suscripción es abierta a todos y la publicación es a través del correo: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hlinkClick r:id="rId4"/>
              </a:rPr>
              <a:t>aso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hlinkClick r:id="rId5"/>
              </a:rPr>
              <a:t>-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hlinkClick r:id="rId6"/>
              </a:rPr>
              <a:t>policy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hlinkClick r:id="rId7"/>
              </a:rPr>
              <a:t>@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hlinkClick r:id="rId8"/>
              </a:rPr>
              <a:t>lists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hlinkClick r:id="rId9"/>
              </a:rPr>
              <a:t>.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hlinkClick r:id="rId10"/>
              </a:rPr>
              <a:t>aso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hlinkClick r:id="rId11"/>
              </a:rPr>
              <a:t>.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hlinkClick r:id="rId12"/>
              </a:rPr>
              <a:t>icann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hlinkClick r:id="rId13"/>
              </a:rPr>
              <a:t>.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hlinkClick r:id="rId14"/>
              </a:rPr>
              <a:t>org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76320"/>
            <a:ext cx="876312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aso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-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aso-council@aso.icann.or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508120"/>
            <a:ext cx="76960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a lista es usada para las discusiones del 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suscripción y la publicación son restrin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 del A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1631880"/>
            <a:ext cx="586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440" indent="-379440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unto de Part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lendario de Ev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sumen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360" y="75960"/>
            <a:ext cx="882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Punto de Part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33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CNIC 2001 - ENCUENTRO ABIERTO SOBRE POLITICAS IP DE LATINOAMERICA Y EL CARI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98560" y="2133720"/>
          <a:ext cx="5545080" cy="41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8560" y="2133720"/>
                    <a:ext cx="5545080" cy="41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360" y="75960"/>
            <a:ext cx="882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lendario de Even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4600" y="3741840"/>
            <a:ext cx="5281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6 D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27080" y="3449520"/>
            <a:ext cx="5814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3 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31000" y="3741840"/>
            <a:ext cx="5893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1 J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73200" y="3449520"/>
            <a:ext cx="640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27 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920" y="3719520"/>
            <a:ext cx="84582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10080" y="3741840"/>
            <a:ext cx="5724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7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71920" y="3741840"/>
            <a:ext cx="5554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6 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37320" y="3449520"/>
            <a:ext cx="5814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5 S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03680" y="3741840"/>
            <a:ext cx="5464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3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26840" y="3449520"/>
            <a:ext cx="5799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7 N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55920" y="3449520"/>
            <a:ext cx="547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2 A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50000" y="3741840"/>
            <a:ext cx="5464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4 A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5920" y="3449520"/>
            <a:ext cx="5968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9 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98480" y="214776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17600" y="377496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95560" y="214776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28800" y="377496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4320" y="214776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92880" y="377496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03640" y="377496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49840" y="214776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7840" y="377496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24760" y="214776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77280" y="214776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17000" y="377496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7440" y="1741320"/>
            <a:ext cx="116352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AC Teleconfere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11840" y="4997520"/>
            <a:ext cx="116352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AC Teleconfere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14520" y="1741320"/>
            <a:ext cx="116352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AC Teleconfere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43720" y="1741320"/>
            <a:ext cx="116352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AC Teleconfere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96240" y="1741320"/>
            <a:ext cx="116352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AC Teleconfere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76400" y="1741320"/>
            <a:ext cx="109548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ASO General Assemb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83480" y="4997520"/>
            <a:ext cx="116352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AC Teleconfere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22600" y="4997520"/>
            <a:ext cx="116388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AC Teleconfere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080" y="4997520"/>
            <a:ext cx="116388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AC Teleconfere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67360" y="1741320"/>
            <a:ext cx="116352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AC Teleconfere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46800" y="4997520"/>
            <a:ext cx="116352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AC Teleconfere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47760" y="4997520"/>
            <a:ext cx="1163880" cy="4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Inform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Teleconferencia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 del 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85640" y="1095480"/>
            <a:ext cx="27532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6 de Diciembre de 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1697040"/>
            <a:ext cx="388620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gen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nda bas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utes from last mee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us of open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ision on emerging RIR doc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P NomCOM e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O General Assem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4149720"/>
            <a:ext cx="7924680" cy="20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in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option of the Emerging RIR’s document and to forward it to ICAN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appoint Ms Lui for a 3 years term and Mr Park  for a 2 years term for the  IRP NomCo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mination of a Program Committee for the General Assembly: Barbara Roseman,  Sabine Jaume, Mirjam Kuehne and Mark McFad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Teleconferencia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 del 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32600" y="1095480"/>
            <a:ext cx="23356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 de Enero de 2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1719360"/>
            <a:ext cx="6324480" cy="30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gen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nda bas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utes from December phone 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us of open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ction of Chair and co-ch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listening facility to AC phone con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itial report from the ASO General Assembly Program Committ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us on 'RIR-ICANN resource request procedures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us on policy and practice comparison doc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s for input forums on upcoming mee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072040"/>
            <a:ext cx="7924680" cy="113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in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ctions of Chair and Co-Chairs in April at the meeting in San Francis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rmine costs for public listening facilit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eleconferencia del 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61240" y="1095480"/>
            <a:ext cx="25261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7 de Febrero de 2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7040" y="1730520"/>
            <a:ext cx="5832360" cy="30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gen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ologies recei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nda bas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utes from January phone 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us of open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PE region AC elections (Congratulations, Sabine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ction of AC-Chair and co-ch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ort from the ASO General Assembly Program Committ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ort from open forums - RIPE 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ults - AC attendance at upcoming mee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5105520"/>
            <a:ext cx="7924680" cy="7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in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o-ordinate a formal and an informal AC meeting in San Francis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Tema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67652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440" indent="-379440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Institucionalidad del 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rocedimientos Administrativos del 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ctividades del 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 Informal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08920" y="1095480"/>
            <a:ext cx="2183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 de Abril de 2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685880"/>
            <a:ext cx="6324480" cy="30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gen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pologies recei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genda bas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tes from February phone 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tatus of open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lection of AC-Chair and co-ch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SO General Assembly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port from Open Foru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C attendance at upcoming mee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CANN Board of Directors, candidates and election crite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4971960"/>
            <a:ext cx="8170920" cy="134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in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re-submit Emerging-RIR document to ICAN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omplete the list of AC chair tasks and propose process for nomination and election procedure for AC chai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ASO General Assemb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08920" y="1095480"/>
            <a:ext cx="2183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 de Abril de 2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43000" y="1600200"/>
          <a:ext cx="693432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693432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Teleconferencia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 del 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57800" y="1095480"/>
            <a:ext cx="22852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9 de Mayo de 2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1752480"/>
            <a:ext cx="6324480" cy="277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gen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ologies recei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nda bas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s from informal April 2001 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us of open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responses from the 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ort from Open Foru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 attendance at upcoming mee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CANN Board of Directors, candidates and election crite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4761000"/>
            <a:ext cx="7924680" cy="176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in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o-ordinate with the RIRs so that they can send their reactions concerning the McFadden/Holmes docu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drive the process of a formal response to the ICANN/VeriSign agre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AC members and observer to submit short list of candidates to elections for ICANN Board and possible election crite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econferencia del 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64640" y="1095480"/>
            <a:ext cx="2271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6 de Junio de 2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752480"/>
            <a:ext cx="6324480" cy="25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gen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lco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ologies receiv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nda bash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utes from May 9th mee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us of open ac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responses from the A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 attendance at upcoming meeting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CANN Board of Directors ele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4871880"/>
            <a:ext cx="7924680" cy="94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in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write up some discussion points about the process to write policy docu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review the ICANN board resolution on the emerging RIR docu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econferencia del 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01280" y="1095480"/>
            <a:ext cx="23983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7 de Junio de 2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1752480"/>
            <a:ext cx="63244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gen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al Conference Call to elect an ICANN Board memb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187800"/>
            <a:ext cx="792468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in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ter careful deliberation and discussion among the voting AC members, there was a clear consensus to elect Lyman Chapin for the ICANN Bo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econferencia del 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39440" y="1095480"/>
            <a:ext cx="23220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1 de Julio de 2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719360"/>
            <a:ext cx="6324480" cy="30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gen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ologies recei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nda bas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utes from June 6th 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us of open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ising RFC 20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O involvement in the whois surv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ir election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 attendance at upcoming mee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 Physical 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5072040"/>
            <a:ext cx="79246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in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draft message of intent describing the timeframe and further process for regional discussion of revising RFC 205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ummarise &amp; propose further action regarding DNSO whois surve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econferencia del 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53960" y="1095480"/>
            <a:ext cx="28933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 de Septiembre de 2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1752480"/>
            <a:ext cx="6324480" cy="277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gen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ologies recei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nda bas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utes from 11 July AC telephone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us of open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ort from Policy 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paration for ICANN Mee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 attendance at upcoming mee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 Physical 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5105520"/>
            <a:ext cx="79246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in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announce RIR stats to ICANN and other appropriate lis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end a message to ac-coord with list of global policy and/or procedure documents that need to be writ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Institucionalidad del A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419120"/>
            <a:ext cx="883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440" indent="-379440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embros Actuales del Address Coun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embros Electos del Address Coun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servadores y Oyentes de los RIR’s Emerg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rectores de ICANN Designados por el 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Miembros Actuales del Address Counc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9810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447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  Periodo (años)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signado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2057400"/>
            <a:ext cx="762012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900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Jianping Wu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gión AP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900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Takashi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 Aran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gión AP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900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hlinkClick r:id="rId4"/>
              </a:rPr>
              <a:t>Seung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hlinkClick r:id="rId5"/>
              </a:rPr>
              <a:t>-Min Le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gión AP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900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hlinkClick r:id="rId6"/>
              </a:rPr>
              <a:t>Raimundo Bec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gión AR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900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hlinkClick r:id="rId7"/>
              </a:rPr>
              <a:t>Cathy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hlinkClick r:id="rId8"/>
              </a:rPr>
              <a:t> Wittbrodt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gión AR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900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hlinkClick r:id="rId9"/>
              </a:rPr>
              <a:t>Barbara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hlinkClick r:id="rId10"/>
              </a:rPr>
              <a:t> Rosema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gión AR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900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hlinkClick r:id="rId11"/>
              </a:rPr>
              <a:t>Hans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hlinkClick r:id="rId12"/>
              </a:rPr>
              <a:t>Petter Hole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gión RI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900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hlinkClick r:id="rId13"/>
              </a:rPr>
              <a:t>Wilfried Woebe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gión RI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900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hlinkClick r:id="rId14"/>
              </a:rPr>
              <a:t>Sabine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hlinkClick r:id="rId15"/>
              </a:rPr>
              <a:t> Jaum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gión RI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Miembros Electos del Address Counc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28717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33856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  Periodo (años)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signado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955960"/>
            <a:ext cx="762012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342900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ny S. Huang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gión AP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42900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ic Decke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gión AR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42900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ns Petter Holen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gión RI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19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partir del 01.01.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Observadores y Oyentes de los</a:t>
            </a:r>
            <a:br>
              <a:rPr sz="4000"/>
            </a:b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RIR’s Emerg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981080"/>
            <a:ext cx="807732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fri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bservador :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Ant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Brook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yentes :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  <a:hlinkClick r:id="rId4"/>
              </a:rPr>
              <a:t>Mouhamet Diop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  <a:hlinkClick r:id="rId5"/>
              </a:rPr>
              <a:t>Nii Quaynor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C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bservador :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  <a:hlinkClick r:id="rId6"/>
              </a:rPr>
              <a:t>German Vald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yentes :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  <a:hlinkClick r:id="rId7"/>
              </a:rPr>
              <a:t>Hartmut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  <a:hlinkClick r:id="rId8"/>
              </a:rPr>
              <a:t> Richard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  <a:hlinkClick r:id="rId9"/>
              </a:rPr>
              <a:t>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  <a:hlinkClick r:id="rId10"/>
              </a:rPr>
              <a:t>Glase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  <a:hlinkClick r:id="rId11"/>
              </a:rPr>
              <a:t>Jorge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  <a:hlinkClick r:id="rId12"/>
              </a:rPr>
              <a:t>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  <a:hlinkClick r:id="rId13"/>
              </a:rPr>
              <a:t>Pl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360" y="75960"/>
            <a:ext cx="882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Directores ICANN designados por el A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1876320"/>
            <a:ext cx="8437320" cy="26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191120"/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Times New Roman"/>
              </a:rPr>
              <a:t>Miembro Directorio      Periodo (años)</a:t>
            </a:r>
            <a:r>
              <a:rPr b="1" lang="es-C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Times New Roman"/>
              </a:rPr>
              <a:t>Región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191120"/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ob Blokzijl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Europa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191120"/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Sang Hyun Kyong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Asia Pacíf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191120"/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Lyman Chapin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Americas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514600"/>
            <a:ext cx="784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imientos Administrativos del A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1143000"/>
            <a:ext cx="5867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440" indent="-379440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eleconferencia Mens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-vo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lujograma de Procedi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iling 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rch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54040" y="85680"/>
          <a:ext cx="6837480" cy="668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85680"/>
                    <a:ext cx="6837480" cy="66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23720" y="763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Flujo de Procedimien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8T01:23:22Z</dcterms:created>
  <dc:creator>CTC</dc:creator>
  <dc:description/>
  <dc:language>en-US</dc:language>
  <cp:lastModifiedBy>Daniel Bonacic F.</cp:lastModifiedBy>
  <cp:lastPrinted>2001-11-26T21:30:42Z</cp:lastPrinted>
  <dcterms:modified xsi:type="dcterms:W3CDTF">2001-11-26T21:32:43Z</dcterms:modified>
  <cp:revision>103</cp:revision>
  <dc:subject/>
  <dc:title>Sin título de diapositiva</dc:title>
</cp:coreProperties>
</file>