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A9F-9693-4833-ADF0-AC94DE26C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16412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6412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680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318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8568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F85-9E2A-4770-B373-54FBE1D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5BE-1ED0-42C1-9D9D-A6C0A5B7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746-EA34-49DB-8BAA-C326565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8C9-F6D1-4E5B-9D43-0763644F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C2A6-A057-411E-AE75-8BF196DA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85E-66CD-4CD6-BCF8-E09FCC5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8002-0B07-4C21-9C6C-76B7DE5E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3CAE-6AF4-4CCD-8971-7AD4D07C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3B7-0045-438E-AAEE-14AD9214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B484-5B1F-40D1-8011-A3BA0C5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BC7-1420-47E7-843A-7F7C786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4A5-85B9-4B06-BF66-AC511181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7B05-F3B5-432A-ABF4-6748B3F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FE1C-435C-41E3-84AE-61B9225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568F-7607-4A7A-BBEA-D1CBCE6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AC7-5A82-45BE-A540-6C284A90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4191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5106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DC9F-E051-418B-B3B9-FA0B60F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435-FC60-4CF1-8867-7524D12D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13C-F77D-4535-9341-FFE72C5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01E-BFB3-487D-B27B-E456CCF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853-221D-4979-A481-3261BFD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985-FF9C-4FC1-9E43-F7A882B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5106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F1C-AF16-42F4-8A65-E034CF8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191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5106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477-8EE4-41BA-AB43-9735713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D261-4F23-4225-AE96-981EF4E3BB5F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7740720" y="5805360"/>
            <a:ext cx="1214280" cy="936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1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2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0A58-1D86-436B-973E-CDC45ABBB9C9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ICANN Logo"/>
          <p:cNvPicPr/>
          <p:nvPr/>
        </p:nvPicPr>
        <p:blipFill>
          <a:blip r:embed="rId2">
            <a:alphaModFix amt="13000"/>
          </a:blip>
          <a:stretch/>
        </p:blipFill>
        <p:spPr>
          <a:xfrm>
            <a:off x="3352680" y="685800"/>
            <a:ext cx="2590920" cy="1998720"/>
          </a:xfrm>
          <a:prstGeom prst="rect">
            <a:avLst/>
          </a:prstGeom>
          <a:ln w="12600">
            <a:solidFill>
              <a:srgbClr val="0000ff">
                <a:alpha val="57000"/>
              </a:srgbClr>
            </a:solidFill>
            <a:miter/>
          </a:ln>
        </p:spPr>
      </p:pic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icann.org/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cann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79360" y="2252520"/>
            <a:ext cx="1922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57200" y="457200"/>
          <a:ext cx="8153280" cy="6121440"/>
        </p:xfrm>
        <a:graphic>
          <a:graphicData uri="http://schemas.openxmlformats.org/drawingml/2006/table">
            <a:tbl>
              <a:tblPr/>
              <a:tblGrid>
                <a:gridCol w="2057400"/>
                <a:gridCol w="2590920"/>
                <a:gridCol w="3504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rganiz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at does it do?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968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ho participates?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9689f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net Corporation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or Assigned Names and Numbers (ICANN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4c6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Global coordination of Internet’s naming and addressing system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4c6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chnology companies, ISPs, technical engineers, security experts, registries and registrars, country code registries, governmental representatives, academic institutions, civil society organizations, intellectual property interest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4c6c9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International Telecommunication Union (ITU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76a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Specialized UN agency for coordination of the global telephony syste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76a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Governmental representatives, telecommunications providers and equipment manufacturers (primarily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76a7f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World Intellectual Property Organization (WIP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b2c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Specialized UN agency to promote protection of intellectual property right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b2c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Governmental representatives, legal expert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b2ceff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Internet Society (ISO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3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Voluntary membership association that promotes “Internet for everyone”, discussion of Internet issues, support for Internet Engineering Task For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3c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0a9"/>
                          </a:solidFill>
                          <a:latin typeface="Arial"/>
                        </a:rPr>
                        <a:t>Free individual membership, organizational members, local chapter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3c5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OU with U.S. DOC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ment signed September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-year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s on specific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roader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 with 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for “commu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overnanc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718920"/>
            <a:ext cx="88390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ard of Directors (19 --&gt; 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ASO Dir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man Chapin, Sang Hong Ky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oumet Diop --&gt; Rob Blojk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on Dir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ejandro Pisanty, Ivan Camp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Organizations (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Name SO --&gt; Generic Names 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ouncil (Chair: Barbara Rose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SO --&gt; || --&gt; cc Names 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al Advisory Committee (G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SO Constitu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staff (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Refor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83059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d February,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  3 key problem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ylaws passed at Shanghai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ve on passage of Transition 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Meeting Amsterdam, December 14/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haul of ICANN structure and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Names Supporting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arge Advisory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C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Developmen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s still to be f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 Names Supporting Orga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 and R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ANA Repor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requests 1999-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request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d 3 working days aft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v4 /8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requests 1999-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requests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d 9, 12 working days aft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v6 /23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initial allocations i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requests received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d 4,15, 5 working days aft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ctivities Underwa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t Org transfer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Sign --&gt; P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gTLD Action Plan pro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mmittee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N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s, Wh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N Committee approaches new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GAC Secretari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ing increases (19 --&gt; 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, organization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eeting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 Annual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14-15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Spring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(23) Mon 24- Thu 27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Summer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real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(22) Mon 23-Thu 26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3 Fall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3200400"/>
            <a:ext cx="6019920" cy="21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6fff5"/>
                </a:solidFill>
                <a:uFillTx/>
                <a:latin typeface="Arial"/>
                <a:hlinkClick r:id="rId2"/>
              </a:rPr>
              <a:t>	www.icann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nn@icann.or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ias, Obrigado, Merci, Th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79360" y="2252520"/>
            <a:ext cx="1922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79a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-228600" y="0"/>
            <a:ext cx="8835840" cy="5256000"/>
            <a:chOff x="-228600" y="0"/>
            <a:chExt cx="8835840" cy="5256000"/>
          </a:xfrm>
        </p:grpSpPr>
        <p:grpSp>
          <p:nvGrpSpPr>
            <p:cNvPr id="173" name=""/>
            <p:cNvGrpSpPr/>
            <p:nvPr/>
          </p:nvGrpSpPr>
          <p:grpSpPr>
            <a:xfrm>
              <a:off x="3298680" y="2880"/>
              <a:ext cx="5308560" cy="4889520"/>
              <a:chOff x="3298680" y="2880"/>
              <a:chExt cx="5308560" cy="488952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7826400" y="3111480"/>
                <a:ext cx="780840" cy="1780920"/>
                <a:chOff x="7826400" y="3111480"/>
                <a:chExt cx="780840" cy="178092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7826400" y="4368600"/>
                  <a:ext cx="780840" cy="523800"/>
                  <a:chOff x="7826400" y="4368600"/>
                  <a:chExt cx="780840" cy="5238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8481960" y="436860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8242200" y="462276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826400" y="463860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7985160" y="311148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440400" y="776160"/>
                <a:ext cx="1646280" cy="3798720"/>
                <a:chOff x="6440400" y="776160"/>
                <a:chExt cx="1646280" cy="379872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6705360" y="1163520"/>
                  <a:ext cx="368280" cy="1141560"/>
                  <a:chOff x="6705360" y="1163520"/>
                  <a:chExt cx="368280" cy="11415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6705360" y="218736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939000" y="198432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2800" y="116352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7048440" y="347328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805440" y="323532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19720" y="294156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46840" y="281304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58120" y="303840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440400" y="277308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29360" y="224460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58080" y="132876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686280" y="77616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298680" y="2880"/>
                <a:ext cx="3789360" cy="4391280"/>
                <a:chOff x="3298680" y="2880"/>
                <a:chExt cx="3789360" cy="4391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298680" y="153828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427200" y="2880"/>
                  <a:ext cx="835200" cy="984240"/>
                  <a:chOff x="3427200" y="2880"/>
                  <a:chExt cx="835200" cy="984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757680" y="617400"/>
                    <a:ext cx="261720" cy="369720"/>
                    <a:chOff x="3757680" y="617400"/>
                    <a:chExt cx="261720" cy="36972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757680" y="75240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870360" y="61740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3427200" y="288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902120" y="349236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13040" y="6336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-228600" y="0"/>
              <a:ext cx="2960640" cy="5256000"/>
              <a:chOff x="-228600" y="0"/>
              <a:chExt cx="2960640" cy="525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-228600" y="23148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03120" y="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2680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14360" y="207936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84360" y="219060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58720" y="256068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0a9"/>
                </a:solidFill>
                <a:latin typeface="Arial"/>
              </a:rPr>
              <a:t>ICANN REPOR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0a9"/>
                </a:solidFill>
                <a:latin typeface="Arial"/>
              </a:rPr>
              <a:t>LACNIC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xico City,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vember 10,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art Ly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ost Important New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ANN Ke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Sand"/>
              </a:rPr>
              <a:t>LACNIC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2776680"/>
            <a:ext cx="899172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Sand"/>
              </a:rPr>
              <a:t>ICANN Shanghai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1400"/>
              </a:spcBef>
              <a:buClr>
                <a:srgbClr val="eaeaea"/>
              </a:buClr>
              <a:buFont typeface="Sa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afb5"/>
                </a:solidFill>
                <a:latin typeface="Sand"/>
              </a:rPr>
              <a:t>Oct 30: Joinder Document 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1400"/>
              </a:spcBef>
              <a:buClr>
                <a:srgbClr val="eaeaea"/>
              </a:buClr>
              <a:buFont typeface="Sa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afb5"/>
                </a:solidFill>
                <a:latin typeface="Sand"/>
              </a:rPr>
              <a:t>Oct 31: ICANN Board procla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Sand"/>
              </a:rPr>
              <a:t>Nov 7: IANA report f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Sand"/>
              </a:rPr>
              <a:t>????: First /8 assigned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18892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Sand"/>
              </a:rPr>
              <a:t>Felicidades!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>
            <a:hlinkClick r:id="rId2"/>
          </p:cNvPr>
          <p:cNvSpPr/>
          <p:nvPr/>
        </p:nvSpPr>
        <p:spPr>
          <a:xfrm>
            <a:off x="7162920" y="685800"/>
            <a:ext cx="1600200" cy="121932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8345" h="21600">
                <a:moveTo>
                  <a:pt x="0" y="0"/>
                </a:moveTo>
                <a:lnTo>
                  <a:pt x="28345" y="0"/>
                </a:lnTo>
                <a:lnTo>
                  <a:pt x="28345" y="21600"/>
                </a:lnTo>
                <a:lnTo>
                  <a:pt x="0" y="21600"/>
                </a:lnTo>
                <a:close/>
              </a:path>
              <a:path fill="lightenLess" w="28345" h="21600">
                <a:moveTo>
                  <a:pt x="0" y="0"/>
                </a:moveTo>
                <a:lnTo>
                  <a:pt x="28345" y="0"/>
                </a:lnTo>
                <a:lnTo>
                  <a:pt x="26945" y="1400"/>
                </a:lnTo>
                <a:lnTo>
                  <a:pt x="1400" y="1400"/>
                </a:lnTo>
                <a:close/>
              </a:path>
              <a:path fill="darken" w="28345" h="21600">
                <a:moveTo>
                  <a:pt x="28345" y="0"/>
                </a:moveTo>
                <a:lnTo>
                  <a:pt x="28345" y="21600"/>
                </a:lnTo>
                <a:lnTo>
                  <a:pt x="26945" y="20200"/>
                </a:lnTo>
                <a:lnTo>
                  <a:pt x="26945" y="1400"/>
                </a:lnTo>
                <a:close/>
              </a:path>
              <a:path fill="darkenLess" w="28345" h="21600">
                <a:moveTo>
                  <a:pt x="28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5" y="20200"/>
                </a:lnTo>
                <a:close/>
              </a:path>
              <a:path fill="lighten" w="28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o What Else Is Happening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IC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riefest of Histori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 Postel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of RIRs, gTLDs, ccT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ization of Internet &amp; WWW (199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 for domain name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hot to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interest of governments world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8: Birth of ICAN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: MOU with R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: Emerging RIR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CANN Miss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Internet’s global system of unique ident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stable and secure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dent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addresses and AS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port and parameter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es the IANA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DNS root name serv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global policy development reasonably and appropriately related to technical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How We Fun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-for-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benefit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/private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dmission/membership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nd trans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um for consensus-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gate to extent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2:12:36Z</dcterms:created>
  <dc:creator>Stuart Lynn</dc:creator>
  <dc:description/>
  <dc:language>en-US</dc:language>
  <cp:lastModifiedBy>Stuart Lynn</cp:lastModifiedBy>
  <dcterms:modified xsi:type="dcterms:W3CDTF">2002-11-12T00:48:29Z</dcterms:modified>
  <cp:revision>191</cp:revision>
  <dc:subject/>
  <dc:title>“Building Partnerships: A Global Challenge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042962</vt:r8>
  </property>
  <property fmtid="{D5CDD505-2E9C-101B-9397-08002B2CF9AE}" pid="3" name="_AuthorEmail">
    <vt:lpwstr>herbert@icann.org</vt:lpwstr>
  </property>
  <property fmtid="{D5CDD505-2E9C-101B-9397-08002B2CF9AE}" pid="4" name="_AuthorEmailDisplayName">
    <vt:lpwstr>Herbert Vitzthum</vt:lpwstr>
  </property>
  <property fmtid="{D5CDD505-2E9C-101B-9397-08002B2CF9AE}" pid="5" name="_EmailSubject">
    <vt:lpwstr>lynn-to-CENTR-17dec01 (Herbert-Draft).ppt</vt:lpwstr>
  </property>
</Properties>
</file>